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F7ADC-A45D-4B05-9927-459954237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D7968-7CFC-47D8-878C-7DE6F3008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DF1F4-5FEE-40EA-B5CB-E59804EEB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DAC24-20F2-4E58-82F7-A760849D0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3BB0E-9FDD-43FE-A076-0020D87EA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7F7F3-A8A5-4CAD-9482-EAA13589C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AF128-3C0D-4428-B611-C778EAE4D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9F64E-F308-4D89-A2E3-B95A97C44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29AD5-32F2-43DE-A89B-5E1F8951B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577B6-D006-481C-9C7F-BF0F7A478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FE3A8-CA0F-4083-B64B-101B2164F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83B10-2401-425B-A1BE-B07071C55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A6491-9E9E-4D64-9441-CD37E97CC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4ECB4-60F1-485E-9865-4B051ABD5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9DAF8-F7B1-49A5-B318-33B933C7B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87193-89B3-4390-BFE1-F90F6F5D8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D9844-B01E-429B-AD8B-9334733F3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B4FD1-D013-4A44-BF11-21FA3973B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E0998-5C45-49C7-9A14-B01F981DE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9B737-20B4-406D-B277-7579DF07F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5395-992C-4F5B-88B6-C7DE0B30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291E-A827-4CC8-8F2E-E5CF4EC8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B015-130A-4D18-BD04-FB9789906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0B1BE-65A2-496A-879E-9AF75AC1D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4E8A-6DCA-4F0E-9472-53DA4DF9559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3467-2EBE-4D0D-8E49-8D738419AB6C}"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m pot sti daca firma  mea este profitabila?</a:t>
            </a:r>
            <a:endParaRPr b="0" lang="en-US" sz="4000" spc="-1" strike="noStrike">
              <a:solidFill>
                <a:srgbClr val="ffffcc"/>
              </a:solidFill>
              <a:latin typeface="Tahoma"/>
            </a:endParaRPr>
          </a:p>
        </p:txBody>
      </p:sp>
      <p:sp>
        <p:nvSpPr>
          <p:cNvPr id="3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um pot afla?</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ezent</a:t>
            </a:r>
            <a:r>
              <a:rPr b="0" lang="en-US" sz="3200" spc="-1" strike="noStrike">
                <a:solidFill>
                  <a:srgbClr val="ffffff"/>
                </a:solidFill>
                <a:latin typeface="Tahoma"/>
              </a:rPr>
              <a:t>a</a:t>
            </a:r>
            <a:r>
              <a:rPr b="0" lang="ro-RO" sz="3200" spc="-1" strike="noStrike">
                <a:solidFill>
                  <a:srgbClr val="ffffff"/>
                </a:solidFill>
                <a:latin typeface="Tahoma"/>
              </a:rPr>
              <a:t>nd elementele patrimoniale de activ si pasiv</a:t>
            </a:r>
            <a:r>
              <a:rPr b="0" lang="en-US" sz="3200" spc="-1" strike="noStrike">
                <a:solidFill>
                  <a:srgbClr val="ffffff"/>
                </a:solidFill>
                <a:latin typeface="Tahoma"/>
              </a:rPr>
              <a:t> de care dispune firma</a:t>
            </a:r>
            <a:r>
              <a:rPr b="0" lang="ro-RO"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Ştiu – Vreau să ştiu- Am învăţat</a:t>
            </a:r>
            <a:endParaRPr b="0" lang="en-US" sz="4400" spc="-1" strike="noStrike">
              <a:solidFill>
                <a:srgbClr val="ffffcc"/>
              </a:solidFill>
              <a:latin typeface="Tahoma"/>
            </a:endParaRPr>
          </a:p>
        </p:txBody>
      </p:sp>
      <p:graphicFrame>
        <p:nvGraphicFramePr>
          <p:cNvPr id="386" name=""/>
          <p:cNvGraphicFramePr/>
          <p:nvPr/>
        </p:nvGraphicFramePr>
        <p:xfrm>
          <a:off x="0" y="1219320"/>
          <a:ext cx="9144000" cy="5486040"/>
        </p:xfrm>
        <a:graphic>
          <a:graphicData uri="http://schemas.openxmlformats.org/drawingml/2006/table">
            <a:tbl>
              <a:tblPr/>
              <a:tblGrid>
                <a:gridCol w="3048120"/>
                <a:gridCol w="3047760"/>
                <a:gridCol w="3048120"/>
              </a:tblGrid>
              <a:tr h="1482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 stiu despre firm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e vreau să ştiu despre firma?</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e am învăţat despre</a:t>
                      </a:r>
                      <a:r>
                        <a:rPr b="0" lang="en-US" sz="2800" spc="-1" strike="noStrike">
                          <a:solidFill>
                            <a:srgbClr val="ffffff"/>
                          </a:solidFill>
                          <a:latin typeface="Tahoma"/>
                        </a:rPr>
                        <a:t> firm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03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ro-RO" sz="1800" spc="-1" strike="noStrike">
                          <a:solidFill>
                            <a:srgbClr val="ffffff"/>
                          </a:solidFill>
                          <a:latin typeface="Tahoma"/>
                        </a:rPr>
                        <a:t>Are un patrimoniu.</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ro-RO" sz="1800" spc="-1" strike="noStrike">
                          <a:solidFill>
                            <a:srgbClr val="ffffff"/>
                          </a:solidFill>
                          <a:latin typeface="Tahoma"/>
                        </a:rPr>
                        <a:t>Patrimoniul cuprinde: Bunurile economice-Activul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Sursele de finanțare- Pasivu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Bilantul contabi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Modificari bilantier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Cum se tine evidenta contabila</a:t>
                      </a:r>
                      <a:r>
                        <a:rPr b="0" lang="ro-RO" sz="1800" spc="-1" strike="noStrike">
                          <a:solidFill>
                            <a:srgbClr val="ffffff"/>
                          </a:solidFill>
                          <a:latin typeface="Tahoma"/>
                        </a:rPr>
                        <a: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ro-RO" sz="1800" spc="-1" strike="noStrike">
                          <a:solidFill>
                            <a:srgbClr val="ffffff"/>
                          </a:solidFill>
                          <a:latin typeface="Tahoma"/>
                        </a:rPr>
                        <a:t>Ce instrument folosesc pentru inregistrarea în contabilitat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Care sunt elementele contului </a:t>
                      </a:r>
                      <a:r>
                        <a:rPr b="0" lang="ro-RO" sz="1800" spc="-1" strike="noStrike">
                          <a:solidFill>
                            <a:srgbClr val="ffffff"/>
                          </a:solidFill>
                          <a:latin typeface="Tahoma"/>
                        </a:rPr>
                        <a: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Corespondenta conturilo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Reguli de functionare a conturilo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Operarea in contur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e am invatat despre firma?</a:t>
            </a:r>
            <a:endParaRPr b="0" lang="en-US" sz="4400" spc="-1" strike="noStrike">
              <a:solidFill>
                <a:srgbClr val="ffffcc"/>
              </a:solidFill>
              <a:latin typeface="Tahoma"/>
            </a:endParaRPr>
          </a:p>
        </p:txBody>
      </p:sp>
      <p:sp>
        <p:nvSpPr>
          <p:cNvPr id="388"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1.Inregistram fiecare operatie economica in conturi conform principiului dublei inregistrari</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2.Contul</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3.Denumirea, simbolul, debitul, creditul, rulajul, total sume debitoare, total sume creditoare si soldul initial si final.</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4.Intre doua conturi de activ daca operatia determina modificari in structura activului, intre doua conturi de pasiv daca operatia  determina modificari in structura pasivului,intre un cont de activ si unul de pasiv daca operatia determina modificari in volumul activelor si pasivelor de natura cresterii sau a scaderii.</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5. Conturile de activ incep sa functioneze prin a se debita si se debiteaza cu ex</a:t>
            </a:r>
            <a:r>
              <a:rPr b="0" lang="en-US" sz="1800" spc="-1" strike="noStrike">
                <a:solidFill>
                  <a:srgbClr val="ffffff"/>
                </a:solidFill>
                <a:latin typeface="Tahoma"/>
              </a:rPr>
              <a:t>i</a:t>
            </a:r>
            <a:r>
              <a:rPr b="0" lang="ro-RO" sz="1800" spc="-1" strike="noStrike">
                <a:solidFill>
                  <a:srgbClr val="ffffff"/>
                </a:solidFill>
                <a:latin typeface="Tahoma"/>
              </a:rPr>
              <a:t>stentul si cresterile de activ, creditandu-se cu miscorarile de activ, iar la sfarsitul exercitiului financiar au intodeauna sold final debitor, sau sunt soldate</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onturile de pasiv incep sa functioneze prin a se credita si se crediteaza cu existentul si cresterile de pasiv, debitandu-se cu micsorarile de pasiv, iar la sfarsitul exercitiului financiar au intodeauna</a:t>
            </a:r>
            <a:r>
              <a:rPr b="0" lang="en-US" sz="1800" spc="-1" strike="noStrike">
                <a:solidFill>
                  <a:srgbClr val="ffffff"/>
                </a:solidFill>
                <a:latin typeface="Tahoma"/>
              </a:rPr>
              <a:t> sold final creditor sau se soldeaza.</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6. Operarea în debitul şi creditul conturilor se face diferit, în funcţie de elementul bilanţier pe care îl reprezintă contul respectiv</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ana</cp:lastModifiedBy>
  <dcterms:modified xsi:type="dcterms:W3CDTF">2010-01-13T15:55:5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